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7DD-00A8-4277-B659-A5329DF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254-B70B-467A-B695-7C3B73A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3AC-7973-4148-B676-36B03DF2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278-BFF1-4042-AE02-43F7BACF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12DA1-A800-40D5-BB0A-534E167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B0434-52C0-4A84-948E-D83F64A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800A-6680-4275-A019-001246B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318DC-298D-4973-81BA-6EF0B79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DECC1-94A1-4687-A58D-92507CF7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70A0-6F3E-496E-93F3-7645E1F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4A083-7DDF-4E2D-8736-1F47436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A58-C709-4BD6-AC01-D02C2B6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68EC-DE67-4B25-AAA5-33CC3F8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667FE-570C-421C-A23B-AD21D47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4EE8-1867-4035-B429-F8E3798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6F67B-2B89-47A4-B651-E9BAD912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67A9D-5A56-401E-B389-A3DEE1E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C48-2EE1-44A4-8DA7-19BE39D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0FF-8C2E-4508-BA2C-0AB5EE22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F84-716C-4FB1-8DED-4E90FECB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512-B02D-45E7-9634-FA87064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947-38E3-4532-AEA8-052F51C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BA8-B5A7-42C7-860A-FDC009D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1F9-BA76-4C82-94EC-4910EF8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A006-F962-4E5B-9968-CCBCCD990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481-E889-4A4E-9A5F-C2A3CFEC0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6ccd4"/>
                </a:solidFill>
                <a:uFillTx/>
                <a:latin typeface="Arial"/>
              </a:rPr>
              <a:t>The Slippery Slide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lope of Alg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My Goals for the Course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project based math unit for high school special education students as well as the regular middle school classroom, that students will remember and apply in future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comprehension Project Based Instruction that I can share with others and use in the SPED and regular classroo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Feedback Reques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stance with my assessm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think it really covers any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making check lists, T-charts and brainstorming sheets for students to work from as well as a journal master for students to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stance with my Uni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Unit Summa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explore the concept of slope of a line and how it is used in the real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instorming a definition for slop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ng two or three simple slope models using blocks and different length rul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ng their slopes using paper and pencil then the SmartBo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ing their slope images to real life images from the inter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ing a formula to determine how an engineer might determine the slope of a line ultimately arriving at rise over r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objects m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lgebra apply to real lif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graphing a line apply to lif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slope use to build roads, buildings and other struc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Content Question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l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graph a line using sl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ormula do you use to find the slope of a 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find slope in an eq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rise over r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what the students know about the coordinate plane and slope of a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 want to learn from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y know about the Unit questions and what they know about graphs with positive and negative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29600" y="6143760"/>
            <a:ext cx="91440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ing higher 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ideas of s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ng ideas with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their constructions with those in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definition and formula for s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assessment helps with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misconceptions can be re-taught by me in small groups if necessary or by p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for different levels of cognition may be easily developed with information from the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Vision for Studen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mpare real life use of math to the state standards for middle school math and alge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reate a simple real life model and develop a  proper mathematical form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pply the mathematical formula to curriculum questions and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ccessfully work in cooperativ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a guided journal of their work and thought processes during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21</a:t>
            </a:r>
            <a:r>
              <a:rPr b="0" i="1" lang="en-US" sz="4400" spc="-1" strike="noStrike" u="sng" baseline="30000">
                <a:solidFill>
                  <a:srgbClr val="c6ccd4"/>
                </a:solidFill>
                <a:uFillTx/>
                <a:latin typeface="Arial"/>
              </a:rPr>
              <a:t>st</a:t>
            </a: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 Century Skill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independently and collaboratively to develop concepts and bringing the two together for a cooperativ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ritical thinking and problem solving to develop a workable math form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vely accounting for the groups work in a jour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internet skills to identify real life objects that match their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20:47Z</dcterms:created>
  <dc:creator>wrichardson</dc:creator>
  <dc:description/>
  <dc:language>en-US</dc:language>
  <cp:lastModifiedBy>wrichardson</cp:lastModifiedBy>
  <dcterms:modified xsi:type="dcterms:W3CDTF">2009-04-05T22:25:46Z</dcterms:modified>
  <cp:revision>14</cp:revision>
  <dc:subject/>
  <dc:title>The Slippery Slide</dc:title>
</cp:coreProperties>
</file>